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hoosh.wav" ContentType="audio/x-wav"/>
  <Override PartName="/ppt/media/image15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F34-4635-41E3-9C49-CD9D6321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885-BBE3-45C8-A9A3-16E1C8E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6D6-3A63-4A2E-AB00-DE87D323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2CC-A964-48D5-83C5-2AEE63FA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27E-422F-45AC-B11C-4F3829B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E7F-1871-4675-9CD2-6DC16AD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536-880B-4328-AEBD-6BBD3AFD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E41-E67B-4478-9032-2D908BF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466-B01D-4922-9409-E30416A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A06-C177-4B07-B2EC-46623BF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BC0-88FE-47CC-A49D-780B132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8D4-CC7B-4AE6-BD13-A89E076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297-E323-4BC7-A081-694551C07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11.gif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hyperlink" Target="http://www.dwighthigh.k12.il.us/students/scheuerj/images/11.gif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dwighthigh.k12.il.us/students/scheuerj/images/HomerSimpson.gif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3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11.gif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hyperlink" Target="http://www.dwighthigh.k12.il.us/students/scheuerj/images/11.gif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3.jpeg"/><Relationship Id="rId12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15" Type="http://schemas.openxmlformats.org/officeDocument/2006/relationships/image" Target="../media/image10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hyperlink" Target="http://www.dwighthigh.k12.il.us/students/scheuerj/images/HomerSimpson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HomerSimpson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the members of the famil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give their name and 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describe your own family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35280" y="1981080"/>
            <a:ext cx="505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i amigo, Mill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141720"/>
            <a:ext cx="277668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4000" y="371628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y hij</a:t>
            </a:r>
            <a:r>
              <a:rPr b="0" lang="en-GB" sz="6000" spc="-1" strike="noStrike">
                <a:solidFill>
                  <a:srgbClr val="3366ff"/>
                </a:solidFill>
                <a:latin typeface="Comic Sans MS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únic</a:t>
            </a:r>
            <a:r>
              <a:rPr b="0" lang="en-GB" sz="60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64500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140360" y="3645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940360" y="364500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9640" y="3645000"/>
            <a:ext cx="180036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295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962520" y="4572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485720" cy="443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27960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 t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9000" y="220968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 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05264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3924360" y="981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33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93372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974520" cy="291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826920" y="476280"/>
            <a:ext cx="216252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04920"/>
            <a:ext cx="243828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19320"/>
            <a:ext cx="2438640" cy="1623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-236232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96280" y="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7010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477120" y="6858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362320" y="-2590920"/>
            <a:ext cx="21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9144000" y="327672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-487440" y="-29113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-162396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-952560" y="68580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6858000"/>
            <a:ext cx="173808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675640" y="7029360"/>
            <a:ext cx="2255760" cy="269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-0.00693 L -1.28872 -0.72023 E">
                                      <p:cBhvr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228600"/>
            <a:ext cx="4114800" cy="2666880"/>
          </a:xfrm>
          <a:prstGeom prst="wedgeEllipseCallout">
            <a:avLst>
              <a:gd name="adj1" fmla="val 100694"/>
              <a:gd name="adj2" fmla="val -4898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9112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971800"/>
            <a:ext cx="2819160" cy="2057400"/>
          </a:xfrm>
          <a:prstGeom prst="wedgeEllipseCallout">
            <a:avLst>
              <a:gd name="adj1" fmla="val -61657"/>
              <a:gd name="adj2" fmla="val 43902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BA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LI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uánots años tiene tu hermano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 siete añ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uánots años tiene tu hermana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 nueve añ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8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228600"/>
            <a:ext cx="4495680" cy="1219320"/>
          </a:xfrm>
          <a:prstGeom prst="wedgeRectCallout">
            <a:avLst>
              <a:gd name="adj1" fmla="val -65361"/>
              <a:gd name="adj2" fmla="val 29166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386388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p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47712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herm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m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2900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her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6019920"/>
            <a:ext cx="23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pad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324480" y="5867280"/>
            <a:ext cx="233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herman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2004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abu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00200" y="5943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895480"/>
            <a:ext cx="23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ab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008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abuel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pic>
        <p:nvPicPr>
          <p:cNvPr id="1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8720" y="3284640"/>
            <a:ext cx="2016000" cy="1942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88000" y="5516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ff"/>
                </a:solidFill>
                <a:latin typeface="Courier New"/>
              </a:rPr>
              <a:t>Soy hijo ú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14800" y="525780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410080" y="24382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padre se llama Homer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ene 3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148428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mic Sans MS"/>
              </a:rPr>
              <a:t>Me llamo Carlos y tengo catorce años. Mi padre se llama Marco y mi madre se llama María. Tengo dos hermanos. Uno se llama Pedro y uno se llama Javier. También tengo tres hermanas. Una se llama Marta, otra se llama Cristina y otra se llama Elena. Javier tiene tres a</a:t>
            </a:r>
            <a:r>
              <a:rPr b="0" lang="es-ES" sz="2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ños y Cristina tiene ocho añ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6920" y="907920"/>
            <a:ext cx="7632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to look for in the descrip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words spelt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said their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said their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linked my phrases e.g. using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m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789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429000"/>
            <a:ext cx="2016000" cy="1943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3564000" y="3141720"/>
            <a:ext cx="2022480" cy="29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06692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o soy Maggie, y os presento a mi fami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760840" cy="404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 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p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81080"/>
            <a:ext cx="2077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m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000" y="1981080"/>
            <a:ext cx="3434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dre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9240" y="1981080"/>
            <a:ext cx="29415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7080" y="1981080"/>
            <a:ext cx="3667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3411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6:40:52Z</dcterms:created>
  <dc:creator>e.morel</dc:creator>
  <dc:description/>
  <dc:language>en-US</dc:language>
  <cp:lastModifiedBy>Owner1</cp:lastModifiedBy>
  <dcterms:modified xsi:type="dcterms:W3CDTF">2008-12-01T10:01:12Z</dcterms:modified>
  <cp:revision>27</cp:revision>
  <dc:subject/>
  <dc:title>   Ma famille</dc:title>
</cp:coreProperties>
</file>